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448-5BE7-4849-8EC9-71F42BE7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632-123E-42BA-A1C7-0569DB59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CFB-FBA9-40A6-AF40-FBC85409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B48-BB6F-40D0-AE1D-E63CA023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DD4-6CC6-41CB-AF24-B470DDFE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875-6F27-467C-BB28-447F7B20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9BC-1E01-41A9-B77B-F84EC8CE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823-3C2E-4604-B9B6-30FA54D4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7A0-A6F8-4D11-8633-33E02BC3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66C-B709-47A1-803A-8F6F8D3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7AD-3694-4A32-912D-3669C3AA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68C-5BAA-4B18-863A-6C1E3E53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55B1-5754-43EA-A378-E20D2147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xistent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n’t seen it yet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heard one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pe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mark what you don’t see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ls…this could have been great for you.  You wasted a chance at an easy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17:30Z</dcterms:created>
  <dc:creator>nbdoe</dc:creator>
  <dc:description/>
  <dc:language>en-US</dc:language>
  <cp:lastModifiedBy>nbdoe</cp:lastModifiedBy>
  <dcterms:modified xsi:type="dcterms:W3CDTF">2007-05-09T17:17:40Z</dcterms:modified>
  <cp:revision>1</cp:revision>
  <dc:subject/>
  <dc:title>Election 2007 </dc:title>
</cp:coreProperties>
</file>